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2991-131F-448F-9B94-D5B4C797CAE5}"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students are already engaged but with Portfolios this will add to their strengths by.</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F8B5-72CD-4DA9-9F67-B7E1837E662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stions to ask after the portfolio journe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79B5-140D-4F9A-BFF4-7D650E68CF7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ainstorm in grps, ask for comments, write down.</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527B-E280-42A7-8BD9-6EC308353CF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ason for going down this path, it’s in the School Strategic Plan. p14</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B8FC-0A23-47D7-A7F2-2E7B6414B00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gs to think about before we go down this path. P.16</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23DF-E362-49B3-9C3E-6676B22D6FF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some suggested formats, p.18</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1198-844E-408B-BA10-4D8658F6869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get things started, develop a clear idea of what you want to achieve in your classroom with portfolios but remain adaptable then talk to your students (Hand out questions for discussion and ‘How to’ ideas). P 20</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753B-B340-4387-A471-9E94263551F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lk to each area, hand out samples of front page, contents. P 23</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89BB-B7A8-4EA9-BD2C-1D903692DC0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s Paul talking about his portfolio</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F9F7-FE0F-4C26-90D8-157C8C44FB2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BC7B1-7DA5-4FDD-8966-77FC0A353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B7003-A76D-4F80-9E40-85633D143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3D3BA-8B57-49BB-A77D-4E4816CC3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66F3-70DD-4121-8530-8D6BBA8E8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E8577-8C01-4BDE-B16D-29E087EE2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F0251-0077-45F6-AB81-C19E896C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9F396-136B-4FFB-B850-DC35C6FE0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16C81-0847-4D34-9920-777C35C53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29E79-4BE3-421D-AB7A-7FB2EC59D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9BD43-528E-4AC8-B26C-644F5065E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FC04E-E557-4CC1-A53C-18BF79752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A3957-1F95-4A14-86CF-1DF436E3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A42FC-D934-4A1C-ADEC-4597B5F51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6D56A-B82C-4763-8492-C5FF047FE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F9F4D-6DFF-4157-88F8-A4E153AAB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4233F-9BAD-40B3-83DD-7900038CE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C9F3D-D76B-4A9B-824D-3BFF22202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4D55BF-3AAC-48C1-A1A2-3B3E7D72EB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034AA1-E686-43F6-8928-110B81CEB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CDE20C-5CBC-4063-B769-8113FF2D3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E0E8A6-9F65-421A-921D-390DC8032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589AC3-73AC-40A9-81E9-9E0B63DF7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EE0C2-0CFF-4BBD-A8B9-77C7E4CB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5C262F-82A2-4C6D-A387-5E94E7D43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EC4BC6-0517-4AA1-B334-EEE92F438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214223-BD97-4FC9-AD5C-903020A02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321FA-1292-4B39-B9CB-06639929D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244E5C-4018-4842-A229-08F26C98E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590318B-04D6-45A0-A0CA-C555800B2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8F7003-5C9D-4C4B-972B-307FD7E76B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2E9AE-B900-475D-BA65-2A04E9492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BA48E-78C5-47FC-9A6F-8BBA9F60E2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3E615-ABAB-4EBF-B83B-9C549F84C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1B474-163F-4A9A-BAB8-19086B45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2BC29-AA3D-4CAF-855D-794C459ED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FF15F8-00E2-4B8C-86E7-9CD0AFE1F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0B482-1F60-4DAD-9E57-15081FC75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008F1-2F4F-4EEE-9A20-376E1260C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5DF08-0CBD-4AE8-BD4B-15432BFFE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E3943-F89B-4782-9982-49BCA40C1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191A7-A4A3-4C00-97C3-6D0A0FA5C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7C2A9-C92E-490D-805D-1F6AFF44D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D2354F-8550-4920-9EE5-8719915C93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625435-FC74-4B7F-94F7-2A520A7140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2AF0-DED3-4B9B-AF08-DB3BC4C5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0DDC73-BF17-42A7-9581-9EC42D26B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30D1F8-C0E2-4F9C-9A2C-2A1A523C30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C0501E-3BCA-4039-836C-9F29CB464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26800F-8743-463E-8725-34958C692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CCD9EB-5020-42D9-B484-06B6D39DB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674467-A919-4772-89C6-95FA08499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800120-6A08-469A-8563-E7583EFF4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BD7FF9-BFE1-4E54-AD9C-440696C54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5C80F2-DD92-4FAD-9BDD-A0B3B37FF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56819B-BF19-4E6F-96F6-BEA7A90F27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52D7-CDAD-4632-8D8E-CDC2AB21C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3ECC54-C026-4A48-9989-2C687E079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953BE43-8A51-42B0-B70F-1006AA01F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EA73FAA-DC22-45A5-8334-B90B22C28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F08F1E-FD43-4520-99B0-DC9670560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E13731-279B-4E61-B78D-407823BFA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1C0FB7-1FE0-4024-BCFF-84D351858F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C829F4-2E98-4F92-AFB5-3E696D491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3ABC14-03FF-4D37-8234-9CE4DF522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13C6E9-0E71-4FB6-A165-81582F54A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AD2655-7492-44B4-9111-2DA8D4F71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9E8C-3320-43EC-8394-5F9D675C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8C5CC4A-1A92-4490-AE38-DCB9C5533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03A9CB4-F396-455C-8DC2-2541D027F8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F34D333-6CF9-43FB-97F7-B88985AE81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5019B7A-2A81-4F41-BA4B-E08A493496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58E4A5-7E88-4C42-AF37-9E49EAAC1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A6B429-1BB0-4750-A7B4-412340CA4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7BA3F0-D7CA-4AAA-A6FD-CA4B3180D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5A2CFA0-DFEF-4BB7-84AE-2EC767124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D993AD-C875-4ED9-8275-053A3CBE7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B680D1-671F-4816-AB75-436C5BBEF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8790-A4C5-4A86-9576-B148DF2C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77125CD-346C-4EFE-86FF-527B0D12E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1EF723-984D-4188-B4C1-08A51EE45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02AF01-648C-46A6-85F1-4AE7F10F6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BCEFC03-DFB8-42AB-9BF2-4C5E321FE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73F17B2-F862-4144-BA46-2F2769AC2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A24F-A500-4BDD-8C7B-594DBB24D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0879-91F1-470E-83CC-4CAB56FAC655}"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2493-898D-4572-B4FE-3596E73E499A}"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744B-2E92-4BDA-BB63-3FE42EE1A357}"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02E1-1A10-4599-B078-8FBA2A35545C}"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F801-9ACF-489D-ACFE-7FD7E549931E}"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9585-537F-41E3-843F-870C9A9AA46A}"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222E-5101-497D-A798-C4DA02C5CF10}"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hyperlink" Target="file:///E:/Paul%20Portfolio.pps" TargetMode="External"/><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ASSESSING THE WHOLE CHILD</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REATING POWEFUL PORTFOLIO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WHERE’S IT GOING?</a:t>
            </a:r>
            <a:endParaRPr b="0" lang="en-US" sz="3000" spc="-1" strike="noStrike">
              <a:solidFill>
                <a:srgbClr val="575f6d"/>
              </a:solidFill>
              <a:latin typeface="Century Schoolbook"/>
            </a:endParaRPr>
          </a:p>
        </p:txBody>
      </p:sp>
      <p:pic>
        <p:nvPicPr>
          <p:cNvPr id="380" name="Content Placeholder 3" descr=""/>
          <p:cNvPicPr/>
          <p:nvPr/>
        </p:nvPicPr>
        <p:blipFill>
          <a:blip r:embed="rId1"/>
          <a:stretch/>
        </p:blipFill>
        <p:spPr>
          <a:xfrm>
            <a:off x="438120" y="1566720"/>
            <a:ext cx="7510320" cy="49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WHERE’S IT GOING?</a:t>
            </a:r>
            <a:endParaRPr b="0" lang="en-US" sz="3000" spc="-1" strike="noStrike">
              <a:solidFill>
                <a:srgbClr val="575f6d"/>
              </a:solidFill>
              <a:latin typeface="Century Schoolbook"/>
            </a:endParaRPr>
          </a:p>
        </p:txBody>
      </p:sp>
      <p:pic>
        <p:nvPicPr>
          <p:cNvPr id="382" name="Content Placeholder 4" descr=""/>
          <p:cNvPicPr/>
          <p:nvPr/>
        </p:nvPicPr>
        <p:blipFill>
          <a:blip r:embed="rId1"/>
          <a:stretch/>
        </p:blipFill>
        <p:spPr>
          <a:xfrm>
            <a:off x="438120" y="1566720"/>
            <a:ext cx="751032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HOW DID WE GO?</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id you set out to achieve through developing a portfoli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oes the portfolio tell people about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o you like most about your portfoli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challeng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How has the portfolio help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How could you make it more effective if you were to do it aga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surpris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has the portfolio helped you learn about yourself?</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1388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WHAT IS A POWERFUL PORTFOLIO?</a:t>
            </a:r>
            <a:endParaRPr b="0" lang="en-US" sz="3000" spc="-1" strike="noStrike">
              <a:solidFill>
                <a:srgbClr val="575f6d"/>
              </a:solidFill>
              <a:latin typeface="Century Schoolbook"/>
            </a:endParaRPr>
          </a:p>
        </p:txBody>
      </p:sp>
      <p:sp>
        <p:nvSpPr>
          <p:cNvPr id="361" name="PlaceHolder 2"/>
          <p:cNvSpPr>
            <a:spLocks noGrp="1"/>
          </p:cNvSpPr>
          <p:nvPr>
            <p:ph type="subTitle"/>
          </p:nvPr>
        </p:nvSpPr>
        <p:spPr>
          <a:xfrm>
            <a:off x="1371600" y="2428560"/>
            <a:ext cx="6400800" cy="37148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75f6d"/>
                </a:solidFill>
                <a:latin typeface="Century Schoolbook"/>
              </a:rPr>
              <a:t>Portfolios where work samples are collected or ‘all about me’ slides are produced are NOT examples of authentic assessment.</a:t>
            </a:r>
            <a:endParaRPr b="0" lang="en-US" sz="24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75f6d"/>
                </a:solidFill>
                <a:latin typeface="Century Schoolbook"/>
              </a:rPr>
              <a:t>Portfolios that support authentic assessment reflect the thinking. This puts the student in charge of their own learning which occurs when they understand their place within it.</a:t>
            </a:r>
            <a:endParaRPr b="0" lang="en-US" sz="2400" spc="-1" strike="noStrike">
              <a:solidFill>
                <a:srgbClr val="000000"/>
              </a:solidFill>
              <a:latin typeface="Century Schoolbook"/>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PURPOSE</a:t>
            </a:r>
            <a:endParaRPr b="0" lang="en-US" sz="3000" spc="-1" strike="noStrike">
              <a:solidFill>
                <a:srgbClr val="575f6d"/>
              </a:solidFill>
              <a:latin typeface="Century Schoolbook"/>
            </a:endParaRPr>
          </a:p>
        </p:txBody>
      </p:sp>
      <p:pic>
        <p:nvPicPr>
          <p:cNvPr id="363" name="Content Placeholder 3" descr=""/>
          <p:cNvPicPr/>
          <p:nvPr/>
        </p:nvPicPr>
        <p:blipFill>
          <a:blip r:embed="rId1"/>
          <a:stretch/>
        </p:blipFill>
        <p:spPr>
          <a:xfrm>
            <a:off x="450720" y="1584360"/>
            <a:ext cx="7480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13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PURPOSE</a:t>
            </a:r>
            <a:endParaRPr b="0" lang="en-US" sz="3000" spc="-1" strike="noStrike">
              <a:solidFill>
                <a:srgbClr val="575f6d"/>
              </a:solidFill>
              <a:latin typeface="Century Schoolbook"/>
            </a:endParaRPr>
          </a:p>
        </p:txBody>
      </p:sp>
      <p:sp>
        <p:nvSpPr>
          <p:cNvPr id="365" name="PlaceHolder 2"/>
          <p:cNvSpPr>
            <a:spLocks noGrp="1"/>
          </p:cNvSpPr>
          <p:nvPr>
            <p:ph type="subTitle"/>
          </p:nvPr>
        </p:nvSpPr>
        <p:spPr>
          <a:xfrm>
            <a:off x="1371600" y="1714320"/>
            <a:ext cx="6400800" cy="4500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1800" spc="-1" strike="noStrike">
              <a:solidFill>
                <a:srgbClr val="575f6d"/>
              </a:solidFill>
              <a:latin typeface="Century Schoolbook"/>
            </a:endParaRPr>
          </a:p>
        </p:txBody>
      </p:sp>
      <p:pic>
        <p:nvPicPr>
          <p:cNvPr id="366" name="Diagram 4" descr=""/>
          <p:cNvPicPr/>
          <p:nvPr/>
        </p:nvPicPr>
        <p:blipFill>
          <a:blip r:embed="rId1"/>
          <a:stretch/>
        </p:blipFill>
        <p:spPr>
          <a:xfrm>
            <a:off x="1566720" y="1768320"/>
            <a:ext cx="6108840" cy="455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9968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SOME QUESTIONS TO ASK.</a:t>
            </a:r>
            <a:endParaRPr b="0" lang="en-US" sz="3000" spc="-1" strike="noStrike">
              <a:solidFill>
                <a:srgbClr val="575f6d"/>
              </a:solidFill>
              <a:latin typeface="Century Schoolbook"/>
            </a:endParaRPr>
          </a:p>
        </p:txBody>
      </p:sp>
      <p:sp>
        <p:nvSpPr>
          <p:cNvPr id="368" name="PlaceHolder 2"/>
          <p:cNvSpPr>
            <a:spLocks noGrp="1"/>
          </p:cNvSpPr>
          <p:nvPr>
            <p:ph type="subTitle"/>
          </p:nvPr>
        </p:nvSpPr>
        <p:spPr>
          <a:xfrm>
            <a:off x="1371600" y="1642680"/>
            <a:ext cx="6400800" cy="39956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does an authentic student portfolio look like?</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is its purpose at Glenferrie Primary school?</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Do they have a student voice in them?</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ere should we start?</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will we use? Folders, display books, scrap books.</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ere will they be housed? Chair bags, central container.</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materials will be needed? Paper, card, photocopying (colour?)</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st of the materials, does it come from the book list or a curriculum budget?</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28760"/>
            <a:ext cx="777240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SPECIFIC FOCUS</a:t>
            </a:r>
            <a:endParaRPr b="0" lang="en-US" sz="3000" spc="-1" strike="noStrike">
              <a:solidFill>
                <a:srgbClr val="575f6d"/>
              </a:solidFill>
              <a:latin typeface="Century Schoolbook"/>
            </a:endParaRPr>
          </a:p>
        </p:txBody>
      </p:sp>
      <p:sp>
        <p:nvSpPr>
          <p:cNvPr id="370" name="PlaceHolder 2"/>
          <p:cNvSpPr>
            <a:spLocks noGrp="1"/>
          </p:cNvSpPr>
          <p:nvPr>
            <p:ph type="subTitle"/>
          </p:nvPr>
        </p:nvSpPr>
        <p:spPr>
          <a:xfrm>
            <a:off x="1371600" y="1857240"/>
            <a:ext cx="6400800" cy="37814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Some examples of different types of portfolios:</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Year’s Duration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Literacy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Numeracy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Integrated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Best Work Portfolio- (Could lead towards an exhibition)</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Student Wellbeing Portfolio- (Habits of the Mind, bullying etc) </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Goal setting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Portfolios are only limited by the imagination of both teacher and students. Provided the purpose is clear, shared and conducive to authentic assessment, then the time is ripe to begin the journey.</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GETTING STARTED</a:t>
            </a:r>
            <a:endParaRPr b="0" lang="en-US" sz="3000" spc="-1" strike="noStrike">
              <a:solidFill>
                <a:srgbClr val="575f6d"/>
              </a:solidFill>
              <a:latin typeface="Century Schoolbook"/>
            </a:endParaRPr>
          </a:p>
        </p:txBody>
      </p:sp>
      <p:pic>
        <p:nvPicPr>
          <p:cNvPr id="372" name="Content Placeholder 3" descr=""/>
          <p:cNvPicPr/>
          <p:nvPr/>
        </p:nvPicPr>
        <p:blipFill>
          <a:blip r:embed="rId1"/>
          <a:stretch/>
        </p:blipFill>
        <p:spPr>
          <a:xfrm>
            <a:off x="450720" y="1584360"/>
            <a:ext cx="7480440" cy="490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THE JOURNEY</a:t>
            </a:r>
            <a:endParaRPr b="0" lang="en-US" sz="3000" spc="-1" strike="noStrike">
              <a:solidFill>
                <a:srgbClr val="575f6d"/>
              </a:solidFill>
              <a:latin typeface="Century Schoolbook"/>
            </a:endParaRPr>
          </a:p>
        </p:txBody>
      </p:sp>
      <p:pic>
        <p:nvPicPr>
          <p:cNvPr id="374" name="Content Placeholder 3"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28400"/>
            <a:ext cx="77724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PAUL’S PORTFOLIO</a:t>
            </a:r>
            <a:endParaRPr b="0" lang="en-US" sz="3000" spc="-1" strike="noStrike">
              <a:solidFill>
                <a:srgbClr val="575f6d"/>
              </a:solidFill>
              <a:latin typeface="Century Schoolbook"/>
            </a:endParaRPr>
          </a:p>
        </p:txBody>
      </p:sp>
      <p:sp>
        <p:nvSpPr>
          <p:cNvPr id="376" name="PlaceHolder 2"/>
          <p:cNvSpPr>
            <a:spLocks noGrp="1"/>
          </p:cNvSpPr>
          <p:nvPr>
            <p:ph type="subTitle"/>
          </p:nvPr>
        </p:nvSpPr>
        <p:spPr>
          <a:xfrm>
            <a:off x="1371600" y="1714680"/>
            <a:ext cx="6400800" cy="457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1800" spc="-1" strike="noStrike">
              <a:solidFill>
                <a:srgbClr val="575f6d"/>
              </a:solidFill>
              <a:latin typeface="Century Schoolbook"/>
            </a:endParaRPr>
          </a:p>
        </p:txBody>
      </p:sp>
      <p:graphicFrame>
        <p:nvGraphicFramePr>
          <p:cNvPr id="377" name="Object 5"/>
          <p:cNvGraphicFramePr/>
          <p:nvPr/>
        </p:nvGraphicFramePr>
        <p:xfrm>
          <a:off x="2357280" y="2214720"/>
          <a:ext cx="4570560" cy="3427200"/>
        </p:xfrm>
        <a:graphic>
          <a:graphicData uri="http://schemas.openxmlformats.org/presentationml/2006/ole">
            <p:oleObj progId="PowerPoint.Show.12" r:id="rId1" spid="">
              <p:embed/>
              <p:pic>
                <p:nvPicPr>
                  <p:cNvPr id="378" name="Object 5" descr="">
                    <a:hlinkClick r:id="rId2"/>
                  </p:cNvPr>
                  <p:cNvPicPr/>
                  <p:nvPr/>
                </p:nvPicPr>
                <p:blipFill>
                  <a:blip r:embed="rId3"/>
                  <a:stretch/>
                </p:blipFill>
                <p:spPr>
                  <a:xfrm>
                    <a:off x="2357280" y="2214720"/>
                    <a:ext cx="4570560" cy="34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4:57:19Z</dcterms:created>
  <dc:creator>Education</dc:creator>
  <dc:description/>
  <dc:language>en-US</dc:language>
  <cp:lastModifiedBy>Education</cp:lastModifiedBy>
  <dcterms:modified xsi:type="dcterms:W3CDTF">2009-06-11T22:32:05Z</dcterms:modified>
  <cp:revision>25</cp:revision>
  <dc:subject/>
  <dc:title>ASSESSING THE WHOLE CHILD</dc:title>
</cp:coreProperties>
</file>